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C92A-07D4-45CE-BAAB-7FF819F7DA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9FBA-E001-4FB9-BAB1-C28661B0D5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8BEE-561F-4E63-895F-AA0A3CEBA5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3EC8-943E-4B25-AA7D-E3B305A454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5E0B-FA70-48CC-9253-C188CA0C6F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E61A-BA60-4DC8-8E31-2432CF232E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510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hyperlink" Target="file:///..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839880" y="1754280"/>
            <a:ext cx="77706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What Is Figurative Language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Figures of Spee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Simi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Metaph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6" action="ppaction://hlinksldjump"/>
              </a:rPr>
              <a:t>Personific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acti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Figurative Languag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51" name="AutoShape 29">
            <a:hlinkClick r:id="" action="ppaction://hlinkshowjump?jump=endshow"/>
          </p:cNvPr>
          <p:cNvSpPr/>
          <p:nvPr/>
        </p:nvSpPr>
        <p:spPr>
          <a:xfrm>
            <a:off x="6108840" y="5940360"/>
            <a:ext cx="769680" cy="917640"/>
          </a:xfrm>
          <a:custGeom>
            <a:avLst/>
            <a:gdLst>
              <a:gd name="textAreaLeft" fmla="*/ 49680 w 769680"/>
              <a:gd name="textAreaRight" fmla="*/ 720000 w 769680"/>
              <a:gd name="textAreaTop" fmla="*/ 49680 h 917640"/>
              <a:gd name="textAreaBottom" fmla="*/ 867960 h 917640"/>
            </a:gdLst>
            <a:ahLst/>
            <a:rect l="textAreaLeft" t="textAreaTop" r="textAreaRight" b="textAreaBottom"/>
            <a:pathLst>
              <a:path w="21600" h="25750">
                <a:moveTo>
                  <a:pt x="0" y="0"/>
                </a:moveTo>
                <a:lnTo>
                  <a:pt x="21600" y="0"/>
                </a:lnTo>
                <a:lnTo>
                  <a:pt x="21600" y="25750"/>
                </a:lnTo>
                <a:lnTo>
                  <a:pt x="0" y="25750"/>
                </a:lnTo>
                <a:close/>
              </a:path>
              <a:path fill="lightenLess" w="21600" h="257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50">
                <a:moveTo>
                  <a:pt x="21600" y="0"/>
                </a:moveTo>
                <a:lnTo>
                  <a:pt x="21600" y="25750"/>
                </a:lnTo>
                <a:lnTo>
                  <a:pt x="20200" y="24350"/>
                </a:lnTo>
                <a:lnTo>
                  <a:pt x="20200" y="1400"/>
                </a:lnTo>
                <a:close/>
              </a:path>
              <a:path fill="darkenLess" w="21600" h="25750">
                <a:moveTo>
                  <a:pt x="21600" y="25750"/>
                </a:moveTo>
                <a:lnTo>
                  <a:pt x="0" y="25750"/>
                </a:lnTo>
                <a:lnTo>
                  <a:pt x="1400" y="24350"/>
                </a:lnTo>
                <a:lnTo>
                  <a:pt x="20200" y="24350"/>
                </a:lnTo>
                <a:close/>
              </a:path>
              <a:path fill="lighten" w="21600" h="25750">
                <a:moveTo>
                  <a:pt x="0" y="257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30">
            <a:hlinkClick r:id="" action="ppaction://hlinkshowjump?jump=endshow"/>
          </p:cNvPr>
          <p:cNvSpPr/>
          <p:nvPr/>
        </p:nvSpPr>
        <p:spPr>
          <a:xfrm>
            <a:off x="7535880" y="5956200"/>
            <a:ext cx="770040" cy="901800"/>
          </a:xfrm>
          <a:custGeom>
            <a:avLst/>
            <a:gdLst>
              <a:gd name="textAreaLeft" fmla="*/ 49680 w 770040"/>
              <a:gd name="textAreaRight" fmla="*/ 720360 w 770040"/>
              <a:gd name="textAreaTop" fmla="*/ 49680 h 901800"/>
              <a:gd name="textAreaBottom" fmla="*/ 852120 h 901800"/>
            </a:gdLst>
            <a:ahLst/>
            <a:rect l="textAreaLeft" t="textAreaTop" r="textAreaRight" b="textAreaBottom"/>
            <a:pathLst>
              <a:path w="21600" h="25294">
                <a:moveTo>
                  <a:pt x="0" y="0"/>
                </a:moveTo>
                <a:lnTo>
                  <a:pt x="21600" y="0"/>
                </a:lnTo>
                <a:lnTo>
                  <a:pt x="21600" y="25294"/>
                </a:lnTo>
                <a:lnTo>
                  <a:pt x="0" y="25294"/>
                </a:lnTo>
                <a:close/>
              </a:path>
              <a:path fill="lightenLess" w="21600" h="252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4">
                <a:moveTo>
                  <a:pt x="21600" y="0"/>
                </a:moveTo>
                <a:lnTo>
                  <a:pt x="21600" y="25294"/>
                </a:lnTo>
                <a:lnTo>
                  <a:pt x="20200" y="23894"/>
                </a:lnTo>
                <a:lnTo>
                  <a:pt x="20200" y="1400"/>
                </a:lnTo>
                <a:close/>
              </a:path>
              <a:path fill="darkenLess" w="21600" h="25294">
                <a:moveTo>
                  <a:pt x="21600" y="25294"/>
                </a:moveTo>
                <a:lnTo>
                  <a:pt x="0" y="25294"/>
                </a:lnTo>
                <a:lnTo>
                  <a:pt x="1400" y="23894"/>
                </a:lnTo>
                <a:lnTo>
                  <a:pt x="20200" y="23894"/>
                </a:lnTo>
                <a:close/>
              </a:path>
              <a:path fill="lighten" w="21600" h="25294">
                <a:moveTo>
                  <a:pt x="0" y="252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533520" y="1370160"/>
            <a:ext cx="82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ing each of the subjects below, write a figure of speech—a simile, a metaphor, or an instance of personification. Then, pick at least one subject of your own, and do the sam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34" descr=""/>
          <p:cNvPicPr/>
          <p:nvPr/>
        </p:nvPicPr>
        <p:blipFill>
          <a:blip r:embed="rId2"/>
          <a:stretch/>
        </p:blipFill>
        <p:spPr>
          <a:xfrm>
            <a:off x="528480" y="1447920"/>
            <a:ext cx="1622520" cy="33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23800" y="3790800"/>
          <a:ext cx="8086680" cy="1706760"/>
        </p:xfrm>
        <a:graphic>
          <a:graphicData uri="http://schemas.openxmlformats.org/drawingml/2006/table">
            <a:tbl>
              <a:tblPr/>
              <a:tblGrid>
                <a:gridCol w="4043520"/>
                <a:gridCol w="404316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ubjec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1. backpack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4. drumme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2. toaste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5. schoolyar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3. quarterback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6. beach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</a:tbl>
          </a:graphicData>
        </a:graphic>
      </p:graphicFrame>
      <p:sp>
        <p:nvSpPr>
          <p:cNvPr id="139" name="Text Box 107"/>
          <p:cNvSpPr/>
          <p:nvPr/>
        </p:nvSpPr>
        <p:spPr>
          <a:xfrm>
            <a:off x="2260440" y="3105000"/>
            <a:ext cx="63500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His homework stared up at him angrily.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108"/>
          <p:cNvSpPr/>
          <p:nvPr/>
        </p:nvSpPr>
        <p:spPr>
          <a:xfrm>
            <a:off x="608040" y="3068640"/>
            <a:ext cx="136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Exampl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Practic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42" name="Text Box 110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AutoShape 112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851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45" name="AutoShape 24"/>
          <p:cNvSpPr/>
          <p:nvPr/>
        </p:nvSpPr>
        <p:spPr>
          <a:xfrm>
            <a:off x="5791320" y="5946840"/>
            <a:ext cx="1770120" cy="911160"/>
          </a:xfrm>
          <a:custGeom>
            <a:avLst/>
            <a:gdLst>
              <a:gd name="textAreaLeft" fmla="*/ 59040 w 1770120"/>
              <a:gd name="textAreaRight" fmla="*/ 1711080 w 1770120"/>
              <a:gd name="textAreaTop" fmla="*/ 59040 h 911160"/>
              <a:gd name="textAreaBottom" fmla="*/ 852120 h 911160"/>
            </a:gdLst>
            <a:ahLst/>
            <a:rect l="textAreaLeft" t="textAreaTop" r="textAreaRight" b="textAreaBottom"/>
            <a:pathLst>
              <a:path w="41955" h="21600">
                <a:moveTo>
                  <a:pt x="0" y="0"/>
                </a:moveTo>
                <a:lnTo>
                  <a:pt x="41955" y="0"/>
                </a:lnTo>
                <a:lnTo>
                  <a:pt x="41955" y="21600"/>
                </a:lnTo>
                <a:lnTo>
                  <a:pt x="0" y="21600"/>
                </a:lnTo>
                <a:close/>
              </a:path>
              <a:path fill="lightenLess" w="41955" h="21600">
                <a:moveTo>
                  <a:pt x="0" y="0"/>
                </a:moveTo>
                <a:lnTo>
                  <a:pt x="41955" y="0"/>
                </a:lnTo>
                <a:lnTo>
                  <a:pt x="40555" y="1400"/>
                </a:lnTo>
                <a:lnTo>
                  <a:pt x="1400" y="1400"/>
                </a:lnTo>
                <a:close/>
              </a:path>
              <a:path fill="darken" w="41955" h="21600">
                <a:moveTo>
                  <a:pt x="41955" y="0"/>
                </a:moveTo>
                <a:lnTo>
                  <a:pt x="41955" y="21600"/>
                </a:lnTo>
                <a:lnTo>
                  <a:pt x="40555" y="20200"/>
                </a:lnTo>
                <a:lnTo>
                  <a:pt x="40555" y="1400"/>
                </a:lnTo>
                <a:close/>
              </a:path>
              <a:path fill="darkenLess" w="41955" h="21600">
                <a:moveTo>
                  <a:pt x="4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55" y="20200"/>
                </a:lnTo>
                <a:close/>
              </a:path>
              <a:path fill="lighten" w="4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533520" y="137016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ersonification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 everyday spee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amples of personification are common in our everyday speec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3511440" y="25416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523800" y="3075120"/>
            <a:ext cx="337176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misery loves company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23800" y="3865680"/>
            <a:ext cx="182556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gentle win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402000" y="3865680"/>
            <a:ext cx="151308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cruel fat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Personification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5778360" y="3865680"/>
            <a:ext cx="284328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the future beckon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4916520" y="3070080"/>
            <a:ext cx="370512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malicious computer viru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18" descr=""/>
          <p:cNvPicPr/>
          <p:nvPr/>
        </p:nvPicPr>
        <p:blipFill>
          <a:blip r:embed="rId3"/>
          <a:stretch/>
        </p:blipFill>
        <p:spPr>
          <a:xfrm>
            <a:off x="7824960" y="552600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9"/>
          <p:cNvSpPr/>
          <p:nvPr/>
        </p:nvSpPr>
        <p:spPr>
          <a:xfrm>
            <a:off x="5791320" y="601992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Figurative language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language based on some sort of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mparis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at is not literally tru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42" descr=""/>
          <p:cNvPicPr/>
          <p:nvPr/>
        </p:nvPicPr>
        <p:blipFill>
          <a:blip r:embed="rId2"/>
          <a:stretch/>
        </p:blipFill>
        <p:spPr>
          <a:xfrm>
            <a:off x="7661160" y="19731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4"/>
          <p:cNvSpPr/>
          <p:nvPr/>
        </p:nvSpPr>
        <p:spPr>
          <a:xfrm>
            <a:off x="4295880" y="4043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Verdana"/>
              </a:rPr>
              <a:t>=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69"/>
          <p:cNvSpPr/>
          <p:nvPr/>
        </p:nvSpPr>
        <p:spPr>
          <a:xfrm>
            <a:off x="523800" y="2440080"/>
            <a:ext cx="8082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uzie’s endless gossiping droned in our ears like the buzzing of a be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What Is Figurative Languag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59" name="Picture 71" descr="c07ele101"/>
          <p:cNvPicPr/>
          <p:nvPr/>
        </p:nvPicPr>
        <p:blipFill>
          <a:blip r:embed="rId3"/>
          <a:stretch/>
        </p:blipFill>
        <p:spPr>
          <a:xfrm>
            <a:off x="1415880" y="3728880"/>
            <a:ext cx="254340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2" descr="c07ele102"/>
          <p:cNvPicPr/>
          <p:nvPr/>
        </p:nvPicPr>
        <p:blipFill>
          <a:blip r:embed="rId4"/>
          <a:stretch/>
        </p:blipFill>
        <p:spPr>
          <a:xfrm>
            <a:off x="4952880" y="3728880"/>
            <a:ext cx="254340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igurative languag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822840" y="16272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23800" y="1916280"/>
            <a:ext cx="80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a natural part of everyday spee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6765840" y="215568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523800" y="2470320"/>
            <a:ext cx="80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the most important means of imaginative expression in poetr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23800" y="3384720"/>
            <a:ext cx="80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kes us see ordinary objects in a new wa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23800" y="4319640"/>
            <a:ext cx="809784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My parents wouldn’t let me go out all last week. I was like a caged animal in my own house.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What Is Figurative Language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69" name="Picture 18" descr=""/>
          <p:cNvPicPr/>
          <p:nvPr/>
        </p:nvPicPr>
        <p:blipFill>
          <a:blip r:embed="rId3"/>
          <a:stretch/>
        </p:blipFill>
        <p:spPr>
          <a:xfrm>
            <a:off x="4387680" y="30780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9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Picture 20" descr=""/>
          <p:cNvPicPr/>
          <p:nvPr/>
        </p:nvPicPr>
        <p:blipFill>
          <a:blip r:embed="rId4"/>
          <a:stretch/>
        </p:blipFill>
        <p:spPr>
          <a:xfrm>
            <a:off x="8031240" y="364320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562640" y="3186000"/>
            <a:ext cx="40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etaph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33520" y="13701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figure of speech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compares one thing to another, seemingly unlike thing. Three common figures of speech 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946920" y="33955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6361200" y="28544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4562640" y="2643120"/>
            <a:ext cx="40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imi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562640" y="3736800"/>
            <a:ext cx="40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ersonific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4044960" y="23241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Figures of Speech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80" name="Picture 10" descr="1014.JPG"/>
          <p:cNvPicPr/>
          <p:nvPr/>
        </p:nvPicPr>
        <p:blipFill>
          <a:blip r:embed="rId4"/>
          <a:stretch/>
        </p:blipFill>
        <p:spPr>
          <a:xfrm>
            <a:off x="523800" y="3187800"/>
            <a:ext cx="3429000" cy="2266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660240" y="2754360"/>
            <a:ext cx="28940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leaves twirled </a:t>
            </a:r>
            <a:r>
              <a:rPr b="1" i="1" lang="en-US" sz="2000" spc="-1" strike="noStrike">
                <a:solidFill>
                  <a:srgbClr val="003300"/>
                </a:solidFill>
                <a:latin typeface="Verdana"/>
              </a:rPr>
              <a:t>like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 dancers on the wa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305160" y="4476600"/>
            <a:ext cx="342432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the leaves </a:t>
            </a:r>
            <a:r>
              <a:rPr b="1" i="1" lang="en-US" sz="2000" spc="-1" strike="noStrike">
                <a:solidFill>
                  <a:srgbClr val="003300"/>
                </a:solidFill>
                <a:latin typeface="Verdana"/>
              </a:rPr>
              <a:t>were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 dancers twirling down the stream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523800" y="5427720"/>
            <a:ext cx="3905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leaves danced on the wa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05"/>
          <p:cNvGrpSpPr/>
          <p:nvPr/>
        </p:nvGrpSpPr>
        <p:grpSpPr>
          <a:xfrm>
            <a:off x="523800" y="3011400"/>
            <a:ext cx="5200560" cy="1393560"/>
            <a:chOff x="523800" y="3011400"/>
            <a:chExt cx="5200560" cy="1393560"/>
          </a:xfrm>
        </p:grpSpPr>
        <p:sp>
          <p:nvSpPr>
            <p:cNvPr id="86" name="Text Box 94"/>
            <p:cNvSpPr/>
            <p:nvPr/>
          </p:nvSpPr>
          <p:spPr>
            <a:xfrm>
              <a:off x="523800" y="3011400"/>
              <a:ext cx="5200560" cy="1393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A wind comes from the north</a:t>
              </a:r>
              <a:endParaRPr b="1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Blowing little flocks of birds</a:t>
              </a:r>
              <a:endParaRPr b="1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Like spray across the town.</a:t>
              </a:r>
              <a:endParaRPr b="1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7760" indent="-347760"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Verdana"/>
                </a:rPr>
                <a:t>from “Patience” by D. H. Lawrenc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Line 95"/>
            <p:cNvSpPr/>
            <p:nvPr/>
          </p:nvSpPr>
          <p:spPr>
            <a:xfrm>
              <a:off x="592200" y="4108320"/>
              <a:ext cx="581040" cy="0"/>
            </a:xfrm>
            <a:prstGeom prst="line">
              <a:avLst/>
            </a:prstGeom>
            <a:ln w="2844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8" name="Text Box 3"/>
          <p:cNvSpPr/>
          <p:nvPr/>
        </p:nvSpPr>
        <p:spPr>
          <a:xfrm>
            <a:off x="528480" y="1370160"/>
            <a:ext cx="808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imil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use the word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like, as, than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resemble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o compare two seemingly unlike thing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54" descr=""/>
          <p:cNvPicPr/>
          <p:nvPr/>
        </p:nvPicPr>
        <p:blipFill>
          <a:blip r:embed="rId1"/>
          <a:stretch/>
        </p:blipFill>
        <p:spPr>
          <a:xfrm>
            <a:off x="7085160" y="2008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2" descr="AIA0097E.JPG"/>
          <p:cNvPicPr/>
          <p:nvPr/>
        </p:nvPicPr>
        <p:blipFill>
          <a:blip r:embed="rId2"/>
          <a:stretch/>
        </p:blipFill>
        <p:spPr>
          <a:xfrm>
            <a:off x="5853240" y="2833560"/>
            <a:ext cx="2768400" cy="1847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Simil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2" name="Text Box 104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etaphor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compare two unlike things without using the connective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like, as, than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resemb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389800" y="19731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9"/>
          <p:cNvSpPr/>
          <p:nvPr/>
        </p:nvSpPr>
        <p:spPr>
          <a:xfrm>
            <a:off x="533520" y="229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etaphors allow us to speak and write in a kind of imaginative shorthand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0" descr=""/>
          <p:cNvPicPr/>
          <p:nvPr/>
        </p:nvPicPr>
        <p:blipFill>
          <a:blip r:embed="rId2"/>
          <a:stretch/>
        </p:blipFill>
        <p:spPr>
          <a:xfrm>
            <a:off x="5167440" y="28591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0"/>
          <p:cNvSpPr/>
          <p:nvPr/>
        </p:nvSpPr>
        <p:spPr>
          <a:xfrm>
            <a:off x="1346040" y="4991040"/>
            <a:ext cx="3429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3" descr="BXP38604.JPG"/>
          <p:cNvPicPr/>
          <p:nvPr/>
        </p:nvPicPr>
        <p:blipFill>
          <a:blip r:embed="rId3"/>
          <a:stretch/>
        </p:blipFill>
        <p:spPr>
          <a:xfrm>
            <a:off x="523800" y="3265560"/>
            <a:ext cx="2255760" cy="2681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Metaphor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grpSp>
        <p:nvGrpSpPr>
          <p:cNvPr id="100" name="Group 36"/>
          <p:cNvGrpSpPr/>
          <p:nvPr/>
        </p:nvGrpSpPr>
        <p:grpSpPr>
          <a:xfrm>
            <a:off x="2935440" y="3456000"/>
            <a:ext cx="5686200" cy="1312560"/>
            <a:chOff x="2935440" y="3456000"/>
            <a:chExt cx="5686200" cy="1312560"/>
          </a:xfrm>
        </p:grpSpPr>
        <p:sp>
          <p:nvSpPr>
            <p:cNvPr id="101" name="Text Box 15"/>
            <p:cNvSpPr/>
            <p:nvPr/>
          </p:nvSpPr>
          <p:spPr>
            <a:xfrm>
              <a:off x="2935440" y="3456000"/>
              <a:ext cx="5686200" cy="1312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I am soft sift</a:t>
              </a:r>
              <a:endParaRPr b="1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Verdana"/>
                </a:rPr>
                <a:t>In an hourglass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	</a:t>
              </a:r>
              <a:r>
                <a:rPr b="0" lang="en-US" sz="1600" spc="-1" strike="noStrike">
                  <a:solidFill>
                    <a:srgbClr val="003300"/>
                  </a:solidFill>
                  <a:latin typeface="Verdana"/>
                </a:rPr>
                <a:t>from “The Wreck of the Deutschland” by Gerard Manley Hopkins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35"/>
            <p:cNvSpPr/>
            <p:nvPr/>
          </p:nvSpPr>
          <p:spPr>
            <a:xfrm>
              <a:off x="3235320" y="3851280"/>
              <a:ext cx="420840" cy="0"/>
            </a:xfrm>
            <a:prstGeom prst="line">
              <a:avLst/>
            </a:prstGeom>
            <a:ln w="2844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1" descr="FSE0012E.JPG"/>
          <p:cNvPicPr/>
          <p:nvPr/>
        </p:nvPicPr>
        <p:blipFill>
          <a:blip r:embed="rId1"/>
          <a:stretch/>
        </p:blipFill>
        <p:spPr>
          <a:xfrm>
            <a:off x="523800" y="2814480"/>
            <a:ext cx="2481480" cy="1657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33520" y="13701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ersonifica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figure of speech in which a nonhuman thing or abstract idea is talked about as if it were huma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3422520" y="23511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1"/>
          <p:cNvSpPr/>
          <p:nvPr/>
        </p:nvSpPr>
        <p:spPr>
          <a:xfrm>
            <a:off x="523800" y="5634000"/>
            <a:ext cx="42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ersonification in everyday speec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Personification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grpSp>
        <p:nvGrpSpPr>
          <p:cNvPr id="108" name="Group 35"/>
          <p:cNvGrpSpPr/>
          <p:nvPr/>
        </p:nvGrpSpPr>
        <p:grpSpPr>
          <a:xfrm>
            <a:off x="3132000" y="2982960"/>
            <a:ext cx="5478480" cy="1366200"/>
            <a:chOff x="3132000" y="2982960"/>
            <a:chExt cx="5478480" cy="1366200"/>
          </a:xfrm>
        </p:grpSpPr>
        <p:sp>
          <p:nvSpPr>
            <p:cNvPr id="109" name="Text Box 15"/>
            <p:cNvSpPr/>
            <p:nvPr/>
          </p:nvSpPr>
          <p:spPr>
            <a:xfrm>
              <a:off x="3132000" y="2982960"/>
              <a:ext cx="5478480" cy="1366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Somewhere the wind-flowers fling their </a:t>
              </a: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	</a:t>
              </a: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heads back,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Verdana"/>
                </a:rPr>
                <a:t>Stirred by an impetuous wind.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r"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Verdana"/>
                </a:rPr>
                <a:t>from “Study” by D. H. Lawrenc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16"/>
            <p:cNvSpPr/>
            <p:nvPr/>
          </p:nvSpPr>
          <p:spPr>
            <a:xfrm flipV="1">
              <a:off x="6958080" y="3363480"/>
              <a:ext cx="1206360" cy="1800"/>
            </a:xfrm>
            <a:prstGeom prst="line">
              <a:avLst/>
            </a:prstGeom>
            <a:ln w="2844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Line 17"/>
            <p:cNvSpPr/>
            <p:nvPr/>
          </p:nvSpPr>
          <p:spPr>
            <a:xfrm>
              <a:off x="3654360" y="3635280"/>
              <a:ext cx="1533600" cy="0"/>
            </a:xfrm>
            <a:prstGeom prst="line">
              <a:avLst/>
            </a:prstGeom>
            <a:ln w="2844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>
              <a:off x="3218040" y="4021200"/>
              <a:ext cx="914400" cy="0"/>
            </a:xfrm>
            <a:prstGeom prst="line">
              <a:avLst/>
            </a:prstGeom>
            <a:ln w="2844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" name="Text Box 34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1"/>
          <p:cNvSpPr/>
          <p:nvPr/>
        </p:nvSpPr>
        <p:spPr>
          <a:xfrm>
            <a:off x="528480" y="1370160"/>
            <a:ext cx="80931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dentify each of the following as a simile, metaphor, or personificati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7591320" y="193824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1"/>
          <p:cNvSpPr/>
          <p:nvPr/>
        </p:nvSpPr>
        <p:spPr>
          <a:xfrm>
            <a:off x="528480" y="2428920"/>
            <a:ext cx="6488280" cy="69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esolate winds that beat the doors of Heav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 Cradle Song” by W. B. Yeats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528480" y="3338640"/>
            <a:ext cx="6488280" cy="99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all hours long, the tow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oars like a beast in a cav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pprehension” by D. H. Lawrenc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528480" y="4551480"/>
            <a:ext cx="6488280" cy="1028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field of cornflower yellow is a scarf at the neck of the copper sunburned woman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utumn Movement” by Carl Sandbur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eview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20" name="AutoShape 25"/>
          <p:cNvSpPr/>
          <p:nvPr/>
        </p:nvSpPr>
        <p:spPr>
          <a:xfrm>
            <a:off x="528480" y="1370160"/>
            <a:ext cx="2286000" cy="47304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528480" y="13701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29"/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0"/>
          <p:cNvSpPr/>
          <p:nvPr/>
        </p:nvSpPr>
        <p:spPr>
          <a:xfrm>
            <a:off x="528480" y="1370160"/>
            <a:ext cx="80931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dentify each of the following as a simile, metaphor, or personificati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5"/>
          <p:cNvSpPr/>
          <p:nvPr/>
        </p:nvSpPr>
        <p:spPr>
          <a:xfrm>
            <a:off x="528480" y="2428920"/>
            <a:ext cx="6488280" cy="69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Desolate winds that beat the doors of Heav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 Cradle Song” by W. B. Yeats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6"/>
          <p:cNvSpPr/>
          <p:nvPr/>
        </p:nvSpPr>
        <p:spPr>
          <a:xfrm>
            <a:off x="528480" y="3338640"/>
            <a:ext cx="6488280" cy="99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all hours long, the tow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oars like a beast in a cav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pprehension” by D. H. Lawrenc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7"/>
          <p:cNvSpPr/>
          <p:nvPr/>
        </p:nvSpPr>
        <p:spPr>
          <a:xfrm>
            <a:off x="528480" y="4551480"/>
            <a:ext cx="6488280" cy="1028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field of cornflower yellow is a scarf at the neck of the copper sunburned woman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Autumn Movement” by Carl Sandbur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7824960" y="552600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Review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30" name="AutoShape 38"/>
          <p:cNvSpPr/>
          <p:nvPr/>
        </p:nvSpPr>
        <p:spPr>
          <a:xfrm>
            <a:off x="528480" y="1370160"/>
            <a:ext cx="2286000" cy="47304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528480" y="13701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559560" y="2332080"/>
            <a:ext cx="206208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ersonific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6562800" y="3267000"/>
            <a:ext cx="104760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imi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6562800" y="4513320"/>
            <a:ext cx="142560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etaph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44"/>
          <p:cNvSpPr/>
          <p:nvPr/>
        </p:nvSpPr>
        <p:spPr>
          <a:xfrm>
            <a:off x="5791320" y="601992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Amber </dc:creator>
  <dc:description/>
  <dc:language>en-US</dc:language>
  <cp:lastModifiedBy>Dan Olsen</cp:lastModifiedBy>
  <cp:lastPrinted>2004-11-19T20:17:12Z</cp:lastPrinted>
  <dcterms:modified xsi:type="dcterms:W3CDTF">2011-01-11T13:54:42Z</dcterms:modified>
  <cp:revision>1272</cp:revision>
  <dc:subject/>
  <dc:title>Elements of Literature: Character</dc:title>
</cp:coreProperties>
</file>